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JUNGLE3.WAV" ContentType="audio/x-wav"/>
  <Override PartName="/ppt/media/PARROT.WAV" ContentType="audio/x-wav"/>
  <Override PartName="/ppt/media/SWAMP1.WAV" ContentType="audio/x-wav"/>
  <Override PartName="/ppt/media/MORNING2.WAV" ContentType="audio/x-wav"/>
  <Override PartName="/ppt/media/GULL.WAV" ContentType="audio/x-wav"/>
  <Override PartName="/ppt/media/image3.jpeg" ContentType="image/jpeg"/>
  <Override PartName="/ppt/media/JUNGLE2.WAV" ContentType="audio/x-wav"/>
  <Override PartName="/ppt/media/BIRD3.WAV" ContentType="audio/x-wav"/>
  <Override PartName="/ppt/media/WREN.WAV" ContentType="audio/x-wav"/>
  <Override PartName="/ppt/media/ROOSTER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6B1-6A43-4A29-9018-F3E8F0BE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187-2AA9-4982-B371-E02A364B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32A-9B1D-4B10-ACD9-F2BCBC86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CFF-2F93-45F9-A4AD-F8115E90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C83-7BE2-486F-AC38-0337D516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E13-FBDC-46BE-AFE3-35343980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4BE-93D2-4E53-8C28-F208A2E9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8C7-0690-424D-8C81-131B663B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654-AD76-40A7-8EDB-526A07C2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D60-48C1-49D4-B763-3C011EE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B9A-6E3E-49B8-A5EA-D1971D9D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3D0-1EE2-4A49-B310-5CBEEA35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F06A-264F-486A-9673-F0EEF34306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ULL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ORNING2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ARROT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audio" Target="../media/JUNGLE2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BIRD3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WREN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ROOSTE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UNGLE3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WAMP1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1447920"/>
            <a:ext cx="6172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河中石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隶书"/>
              </a:rPr>
              <a:t>课文理解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844640"/>
            <a:ext cx="75610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此段叙述讲学家的观点及众人盲从的心理）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45720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老河兵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又笑曰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河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求之于上游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性坚重，沙性松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水不能冲石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反激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力，必于石下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水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啮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沙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坎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渐激渐深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之半，石必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倒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坎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8380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讲学家的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914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凡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914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失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057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应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2057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原因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3124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4267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冲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4267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坑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等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410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摔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32925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n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748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老河兵闻之，             又笑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一个老水手听了学究的话后，又嘲笑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“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凡河中失石，          当求之于上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凡是河中失落的石头，都应该到河的上游去寻找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盖石性坚重，沙性松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正因为石头的特性坚硬而沉重，泥沙的特性松散而轻浮，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盖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，表原因的发语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水不能冲石，               其反激之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所以）水流不能冲走石头，它的反冲的力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必于石下迎水处啮沙为坎穴。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一定会在石头迎水的地方冲击石前的沙子形成坑穴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渐激渐深，   至石之半，       石必倒掷坎穴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越冲越深，冲到石头半身空着时，石头一定会倒在陷坑中。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倒掷，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摔倒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具体叙述老河兵关于河中寻石兽的道理和方法）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53352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如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再啮，石又再转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转转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流逆上矣。求之下流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颠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求之地中，不更颠乎？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如   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言，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数里外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然则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天下之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知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，不知其二者多矣，可据理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臆断    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像这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990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一再翻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057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于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1219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057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逆流而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固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按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213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他的，指老河兵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找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既然这样，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410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主观武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50160" y="4443480"/>
            <a:ext cx="7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y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492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如是再啮，石又再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像这样再冲击，石头又向前再转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转转不已，         遂反溯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s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）流逆上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这样一再翻转不停，于是石头会反方向逆流而上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求之下流，        固颠；     求之地中，不更颠乎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到下游去寻找它，固然荒唐；在石兽掉下去的当地寻找，不是更荒唐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如其言，               果得于数里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按照老水手的说法去找，果然在几里外的上游地方寻到了石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然则天下之事，但知其一，不知其二者多矣，可据理臆断欤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既然这样，那么天下的事情，只知其一、不知其二的还多着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难道可以根据自己所知道的道理就主观判断吗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24080" y="380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1523880"/>
            <a:ext cx="12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古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1523880"/>
            <a:ext cx="11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今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2362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86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不潮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2971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2971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733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3657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事物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657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一门学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44197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表判断的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5105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已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71800" y="152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990720"/>
            <a:ext cx="381240" cy="5105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685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笑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7621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顺流而下寻找石兽这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752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沿河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7524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石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286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老河兵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286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讲学家的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8195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上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2819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石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反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352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39625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88620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49568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流、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4724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石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5627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则天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5562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763640" y="404640"/>
            <a:ext cx="247644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冲石原理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2082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34920" y="5232240"/>
            <a:ext cx="9178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PARROT.WAV"/>
      </p:stSnd>
    </p:sndAc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6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6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合作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、课文中描述了几种寻找石兽的方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题目解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18352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中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4440" y="366084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河中石兽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75560" y="357336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倒塌在河中的石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交代了文章主要内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29240" y="195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1800" y="198288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石兽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42320" y="19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828800" y="228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总结四种寻找石兽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12952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066680" y="1295280"/>
          <a:ext cx="7239240" cy="4267440"/>
        </p:xfrm>
        <a:graphic>
          <a:graphicData uri="http://schemas.openxmlformats.org/drawingml/2006/table">
            <a:tbl>
              <a:tblPr/>
              <a:tblGrid>
                <a:gridCol w="1809720"/>
                <a:gridCol w="1543320"/>
                <a:gridCol w="2076480"/>
                <a:gridCol w="180972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寻找经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寻找的地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143000" y="22096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2133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048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048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048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顺流而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3809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3809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讲学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3809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原地沙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648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四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老河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59200" y="4648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之于上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449568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果得于数里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失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3400" y="2209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原地水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2209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可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3048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1295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第一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12952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考虑流水、石兽、泥沙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057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第二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20574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考虑了流水，没考虑石兽、泥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8954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819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第三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8195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考虑了石兽和泥沙的关系，忽略了流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四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41911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既有理论又有实践，准确把握了三者的性质及相互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、说说寺僧、讲学家、老河兵各自寻找石兽的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宋体"/>
                <a:hlinkClick r:id="rId1" action="ppaction://hlinksldjump"/>
              </a:rPr>
              <a:t>道理和方法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，分析他们这样认识的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宋体"/>
                <a:hlinkClick r:id="rId2" action="ppaction://hlinksldjump"/>
              </a:rPr>
              <a:t>原因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及文中表现出的人物性格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1" action="ppaction://hlinksldjump"/>
              </a:rPr>
              <a:t>认识不同</a:t>
            </a:r>
            <a:r>
              <a:rPr b="1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的原因及性格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寺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按一般的思维模式和惯例，认为水的流动会把石兽带到下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9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“阅十余岁，僧募金重修 ”可见其毅力坚定但经验不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86520" y="2565360"/>
            <a:ext cx="5965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讲学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自认为“究物理”，以“石性坚重，沙性松浮” 的理论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推断石兽在原地“渐沉渐深 ”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“笑曰”“尔辈不能究物理”足显其一知半解而好为人师，自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清高而轻视他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54360" y="4187880"/>
            <a:ext cx="56671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老河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常年在河边劳动，了解水、沙、石等自然事物特性，根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多年经验认为：那石兽很重，而河沙又松，西来的河水冲不动石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反而把石兽下面的沙子冲走了，还冲成一个坑，时间一久，石兽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必向西倒去，掉进坑中。如此年复一年地倒，就好像石兽往河水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游翻跟头一样，当求之于上流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有实际经验，沾沾自喜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、老河兵的判断为什么是正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（常年在河边劳动，了解水、沙、石等自然事物特性，把理论知识和多年经验结合起来分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26920" y="1989000"/>
            <a:ext cx="77724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、作者由此得出了什么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然则天下之事，但知其一，不知其二者多矣。可据理臆断欤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03840" y="40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然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下之事，但知其一，不知其二者多矣。可据理臆断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句话告诉我们什么道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50760" y="2205000"/>
            <a:ext cx="572796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cc0099"/>
                </a:solidFill>
                <a:latin typeface="Times New Roman"/>
              </a:rPr>
              <a:t>这句话，既是对讲学之类一知半解而又自以为是的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</a:rPr>
              <a:t>辛辣嘲讽，又以反问的方式指明了认识事物的方法和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</a:rPr>
              <a:t>不能片面地理解，而要全面深入地调查探究事物的特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</a:rPr>
              <a:t>更不能主观臆断，而应当遵循客观事物的规律。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以议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方式，点明主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6360" y="213372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讲学家的“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包含了讲学家对寺僧的嘲讽和一种自信，刻画出讲学家自恃博才的心态）老河兵的“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流露出了老河兵对讲学家自恃博才的一种否定，也表现出老河兵的自信和沾沾自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21760" y="6681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cc0099"/>
                </a:solidFill>
                <a:latin typeface="Times New Roman"/>
              </a:rPr>
              <a:t>、如何理解文中两次“笑”的意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79280" y="2708280"/>
            <a:ext cx="89647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课文是怎样结构的，阐述的事理对我们平时的生活、学习有什么启示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333360"/>
            <a:ext cx="4535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 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联系实际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·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拓展延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0574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许多自然现象的发生往往有着复杂的原因，我们不能只知其一，不知其二，仅仅根据自己的一知半解就根据常情主观作出判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8120" y="685800"/>
            <a:ext cx="2438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中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66724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457200"/>
            <a:ext cx="67863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685800"/>
            <a:ext cx="5334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纪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晓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著名学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生性诙谐风趣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任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《四库全书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纂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著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阅微草堂笔记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3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阅微草堂笔记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纪昀晚年所作的一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文言笔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说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题材以妖怪鬼狐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是以笔记形式写的志怪小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50846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《四库全书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古今图书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经、史、子、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档，总名为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四库全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、学生反复朗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、字、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圮（）棹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( )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曳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(  )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湮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(   )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啮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(    )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溯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(   )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臆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、学生参照注解疏通文意。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42920" y="26028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预习检查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85800"/>
            <a:ext cx="8077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沧州南一寺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临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山门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于河，二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兽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沉焉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十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僧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金重修，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石兽于水中，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可得，以为顺流下矣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数小舟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铁钯，寻十余里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066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靠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岸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228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19600" y="1066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坍塌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514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2514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68560" y="2514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2514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募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寻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竟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z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81720" y="396252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摇（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81160" y="4572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486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牵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踪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7280" y="189000"/>
            <a:ext cx="10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g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939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沧州南一寺临河干，            山门 圮（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pǐ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）于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沧州南面，有一座寺庙靠近河边，庙门 倒塌到河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二石兽并沉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（门旁）两只石兽也一起沉到河里了。</a:t>
            </a:r>
            <a:r>
              <a:rPr b="0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焉</a:t>
            </a:r>
            <a:r>
              <a:rPr b="0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，兼词，“于之”，在这个地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阅十余岁，      僧募金重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经历了十多年，和尚募集到了一笔钱，（决定）重修（庙门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求二石兽于水中，         竟不可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便到河中寻找那两只石兽，居然没找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以为顺流下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认为石兽顺着河的方向冲到下游去了。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下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，往下游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1640" y="5659560"/>
            <a:ext cx="8964720" cy="14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棹数小舟，曳铁钯，寻十余里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无迹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于是划着几只小船，拉着铁耙，寻找了十多里地，也不见其踪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隶书"/>
              </a:rPr>
              <a:t>课文理解（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（写寺僧按一般人的想法顺流找石兽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"/>
            <a:ext cx="8915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讲学家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设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寺中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闻  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笑曰：“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尔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究   物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非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木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暴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去？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性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坚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         沙性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松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沙上，渐沉渐深耳。   沿河求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乎？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众服为确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685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开馆执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609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听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6094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这件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609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你们这些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推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2286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事物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2286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1523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286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木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286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65112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34290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坚硬沉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3505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松散轻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ā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埋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5638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荒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5667480"/>
            <a:ext cx="61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众人佩服他的话，认为是真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讲学家设帐寺中，闻之笑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有个学究在庙里开馆执教，听到这件事便嘲笑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“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尔辈不能究 物理。              是非木杮（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fèi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你们这些人不能推究 事物的道理。这不是木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岂能为暴涨携之去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怎么能被洪水带了走呢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乃石性坚重，沙性松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石头的特性是坚硬而沉重，泥沙的特性松散而轻浮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湮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y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）于沙上，渐沉渐深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石兽埋没在泥沙上，就会越沉越深。耳，助词，表示肯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沿河求之，不亦颠乎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顺着河流往下游去寻找它，不是荒唐吗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沿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顺流而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众服为确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众人信服他的话，认为是正确的论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7:16:49Z</dcterms:created>
  <dc:creator> </dc:creator>
  <dc:description> </dc:description>
  <cp:keywords/>
  <dc:language>en-US</dc:language>
  <cp:lastModifiedBy>User</cp:lastModifiedBy>
  <dcterms:modified xsi:type="dcterms:W3CDTF">2014-11-03T01:23:49Z</dcterms:modified>
  <cp:revision>1</cp:revision>
  <dc:subject> </dc:subject>
  <dc:title> </dc:title>
</cp:coreProperties>
</file>